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1DD4-C8E3-419C-9E6A-3902D85E7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mun.ca/biology/scarr/Arginine_nutritional_mutant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flickr.com/photos/agathman/5469134899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dnaftb.org/13/bio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gfmer.ch/genetic_diseases_v2/gendis_detail_list.php?cat3=18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nature.com/scitable/topicpage/cell-metabolism-1402618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 a book called Inborn Errors of Metaboism in 19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luded alkaptonuria, cystinuria, pentosuria, albi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iki.cstl.semo.edu/agathman/Proteins%20and%20genes.ashx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ffected Infants who were fed phenylalanine had increased blackness in urine.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sandwalk.blogspot.com/2008/05/nobel-laureates-george-beadle-and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publications.nigms.nih.gov/thenewgenetics/livinglab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al nutrient medium contained inorganic salts, sugar, one of the B vita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5089-66DC-43A7-9913-B2D65D26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7803-CF71-4F0A-9285-94C3AB1D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735E-B4E8-436C-B56D-C4375576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639B-CF8B-4C89-9BB5-C9F76F24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3FB7-F1F3-4947-BF95-2A9D0007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25D3-4548-45EB-A50A-2B7C2D5D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0688-694E-4BA2-A2B0-FAC73493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AF78-68F6-4B24-A2A7-34D07188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91DA-AD97-4A05-8ACC-1A346EC8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8C21-7310-44BB-839F-8F86A6E7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9F55-0FC1-4C87-81DF-9294AB3A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D41A-7559-460F-8CEF-8761BCFE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17FC-2705-4A9A-8F68-BD07AD63E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dnaftb.org/16/animation.html" TargetMode="External"/><Relationship Id="rId2" Type="http://schemas.openxmlformats.org/officeDocument/2006/relationships/hyperlink" Target="http://wps.prenhall.com/wps/media/objects/1552/1589869/web_tut/21_04/21_04_01a.swf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738360"/>
            <a:ext cx="777240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ginine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13040" y="1981080"/>
            <a:ext cx="5316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Gene-One Enzy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dle &amp; Tatum’s work resulted in the on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-one enzyme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accurately known a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gene-one polypept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dle &amp; Tatum experiments (excellent slideshow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16/animation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dle &amp; Tatum (narrated animation…a bit d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ps.prenhall.com/wps/media/objects/1552/1589869/web_tut/21_04/21_04_01a.sw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bald Garrod (1857-196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phys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d metabolic defects in newbo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d family history of certain ill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22880" y="1981080"/>
            <a:ext cx="266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kaptonu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urine to turn 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mulation of alkapton in 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2624040"/>
            <a:ext cx="38098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rod’s 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kaptonuria caused by problem with enzyme that breaks down alka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born error of metabolism” (192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4192560"/>
            <a:ext cx="77724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enylalanine Me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00160" y="1981080"/>
            <a:ext cx="514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 (194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genetic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d red bread mould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urospora cras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2365200"/>
            <a:ext cx="380988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eurospora cras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673360" y="1981080"/>
            <a:ext cx="379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”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. crass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ble to grow on minimal nutrient med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nt” strai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. cras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re created through exposure to X-rays or UV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nt strains were unable to grow on minimal nutrient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me mutant strains, addi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gin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minimal nutrient medium resulted in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 pathway for synthesis of arginine was determined through experi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nt strain tested with intermedi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2:10:59Z</dcterms:created>
  <dc:creator>rubina khan</dc:creator>
  <dc:description/>
  <dc:language>en-US</dc:language>
  <cp:lastModifiedBy>rubina khan</cp:lastModifiedBy>
  <dcterms:modified xsi:type="dcterms:W3CDTF">2013-04-22T04:29:22Z</dcterms:modified>
  <cp:revision>105</cp:revision>
  <dc:subject/>
  <dc:title>Molecular Genetics</dc:title>
</cp:coreProperties>
</file>